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C623DF3-2344-4C90-A3B6-04394C19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FD7B0DF-36AF-47D2-AB35-506DDA2F4F7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08A2BF2-7C47-47DE-B200-7027630E2A4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371587D-7C6A-448B-BA58-DFBFD12B734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76FEFF6-C870-4915-BF22-8D747EB0E76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B1BE1E7-F2BC-401A-A1F0-A9AD0808FEB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25575CC-1154-4D26-889F-401AE81888A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BE2F66E-D97F-45D7-9E15-FA6DB205467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4342935-6A4F-44FF-9A8B-C60882962E9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81351E5-44A5-4E79-A3ED-5C4A750DCDA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4595B8F-B75C-4987-8C72-E79582427E6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4C12363-B80B-4137-B3B8-CAC355E84B7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FD99E7D-77F9-491B-996B-C9CA4704B5F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34C1013-C421-47FF-96B9-E26EF5451BD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3271D64-6663-42D7-A147-CDD30746EB6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78009A6-3193-4ED3-AD36-F4BDE630C8D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62E53D0-4AF8-423B-9115-165D3BCA56F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1251258-75FD-42C1-8FEC-EAE8D629A01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E6A64FE-7DC5-4678-ADF8-9A8C8377E90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DF81D78-3A4E-46CC-AEEE-E4AC533936C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6076042-38F2-4872-A68E-420C30F7F0C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F73B580-043C-42FF-B76F-9D1FC4CF917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943D97E-F3E0-4D3D-8324-4B8A75F2083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19016C0-3C81-4384-B4FA-AF43853BCF6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162C3D1-C67A-4F00-BFEE-C414FAC57AE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38319EE-595F-4A4A-A4AB-550ECFBAC16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EC415BE-0ECF-4E9C-8EF7-4D88B3A214B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B4716A1-005B-4454-8CE4-53F5F955443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8739E4B-DB83-4581-AC6C-0A67A048AED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2B5147B-E63C-4697-B4F3-9DEE9160FB2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2640359-C6AC-41A0-8C3E-E6DFA0A9FDB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A490224-0F81-4ED8-9624-8CB388EC29E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B470F06-E281-4EC0-AFF3-EA3F8331091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93497B4-E5AC-4009-BB92-762492BC6DE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E0603F6-3982-4087-A861-58AA750E13B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7F3-2389-466F-BBC2-928A2944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C0A-83B7-4BBC-ADC2-C48B164B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76C-1328-486E-BFD0-848DFFF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96A-DFF3-4BAC-A97F-5605F8B4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0223-C633-4594-A8E0-03DB32AF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9B05-CB39-4C0F-9F18-698140A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93C-AFA3-48DA-9DD0-68D6619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9C43-B790-4C75-8CAE-033D0E02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1586-3273-4164-82BB-71C5C47C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D11-2C3B-4162-8F66-9B16670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5479-BCC6-4BFF-BCCF-3A6E9B4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10C-8381-417D-A707-5C66D53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A6DF-8A8A-4ADF-AB44-3BA6491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E70D-C53B-4F88-AF71-975C054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EE3A-165D-4ACE-9957-D94C9AE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6EA-4E2F-4046-B280-D7A4877E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3C57-7881-4898-B66E-3F8D2652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ACF-9A8D-4021-BF12-90D4B17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7CE-89DD-46A6-8545-8D7D6D3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770-8F44-4C4F-9305-63568DA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0E0-A327-4EAD-A7A8-670D3DE6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8A-2388-4F79-8ACE-F128CB4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8FE-AB56-4CF4-AE41-8E53CB2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330-60D8-46A9-8076-35E703F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641-94DF-4E43-8EC4-AE79D7B7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1CAA-C910-43E6-A4B0-213B7A88F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lus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Yahoo! Correl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he structure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2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3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3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3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AutoShape 16"/>
            <p:cNvCxnSpPr>
              <a:endCxn id="13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41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142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46" name="AutoShape 23"/>
            <p:cNvCxnSpPr>
              <a:stCxn id="136" idx="3"/>
              <a:endCxn id="142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148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1" name="AutoShape 31"/>
            <p:cNvCxnSpPr>
              <a:stCxn id="148" idx="1"/>
              <a:endCxn id="149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152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55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7" name="AutoShape 37"/>
          <p:cNvCxnSpPr>
            <a:stCxn id="148" idx="2"/>
            <a:endCxn id="158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159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160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62" name="AutoShape 41"/>
          <p:cNvCxnSpPr>
            <a:stCxn id="148" idx="2"/>
            <a:endCxn id="155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163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164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5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67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8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58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9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0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3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174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175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77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178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5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0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4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195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7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enerating the snippets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it-IT" sz="3600" spc="-1" strike="noStrike">
                <a:solidFill>
                  <a:srgbClr val="a40508"/>
                </a:solidFill>
                <a:latin typeface="Lucida Sans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Sans"/>
              </a:rPr>
              <a:t>Consider Wikipedia E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llection siz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 docs ≈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4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*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in total &gt;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 billion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avg term len = 6 char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distinct =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everal mill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kind of data structure do we build to support word-based searches 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B-based solution: 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Term-Doc matri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638680" y="5568840"/>
            <a:ext cx="2819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762120" y="2023920"/>
          <a:ext cx="7637400" cy="33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23920"/>
                    <a:ext cx="763740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11280" y="2492280"/>
            <a:ext cx="0" cy="2737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7"/>
          <p:cNvSpPr/>
          <p:nvPr/>
        </p:nvSpPr>
        <p:spPr>
          <a:xfrm rot="5400000">
            <a:off x="-483480" y="33984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terms &gt; 1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1908000" y="1989000"/>
            <a:ext cx="6266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643280" y="15318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docs ≈ 4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19480" y="537840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Sans"/>
              </a:rPr>
              <a:t>Space ≈ 4Tb !</a:t>
            </a: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3300"/>
                </a:solidFill>
                <a:latin typeface="Comic Sans MS"/>
              </a:rPr>
              <a:t>Retrieve docs that are “relevant” for the user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Doc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ile word or pdf, web page, email, blog, e-book,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Query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aradigm “bag of words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336600"/>
                </a:solidFill>
                <a:latin typeface="Tahoma"/>
              </a:rPr>
              <a:t>Relevant ?!?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oal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rrent solution: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17480" y="32004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226" name="Rectangle 9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232" name="Group 15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233" name="Rectangle 16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4" name="Rectangle 17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Rectangle 18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Rectangle 19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Line 20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8" name="Text Box 21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22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24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25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26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27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6" name="Group 29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247" name="Group 30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248" name="Rectangle 31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Rectangle 32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Rectangle 33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Rectangle 34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35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3" name="Text Box 36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Text Box 37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39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40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41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43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1" name="Text Box 44"/>
          <p:cNvSpPr/>
          <p:nvPr/>
        </p:nvSpPr>
        <p:spPr>
          <a:xfrm>
            <a:off x="34668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AutoShape 45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AutoShape 47"/>
          <p:cNvSpPr/>
          <p:nvPr/>
        </p:nvSpPr>
        <p:spPr>
          <a:xfrm>
            <a:off x="1067400" y="5834520"/>
            <a:ext cx="7270920" cy="723240"/>
          </a:xfrm>
          <a:custGeom>
            <a:avLst/>
            <a:gdLst>
              <a:gd name="textAreaLeft" fmla="*/ 1326960 w 7270920"/>
              <a:gd name="textAreaRight" fmla="*/ 5943960 w 7270920"/>
              <a:gd name="textAreaTop" fmla="*/ 131760 h 723240"/>
              <a:gd name="textAreaBottom" fmla="*/ 591480 h 72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urrently they get 1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% original tex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85690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may use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N bits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should take about 1 bit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-coding for posting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docI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gaps between consecutive docI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33,  47,  154,  159,  202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3,  </a:t>
            </a:r>
            <a:r>
              <a:rPr b="0" lang="en-US" sz="2400" spc="-1" strike="noStrike">
                <a:solidFill>
                  <a:srgbClr val="da2a00"/>
                </a:solidFill>
                <a:latin typeface="Lucida Sans"/>
              </a:rPr>
              <a:t>14,  107,  5,      43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Lucida Sans"/>
              </a:rPr>
              <a:t>Two advantag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ace: store smaller integers (clustering?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eed: query requires just a sc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v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79520" y="580536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v) = 1/2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ice cod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simplification of Golomb cod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07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parametric code: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pends on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otient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q=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v-1)/k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the rest i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r= v – k * q –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when integers concentrated around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choose k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ually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0.69 *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v)     [Bernoulli mode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al for Pr(v) = p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v-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where mean(v)=1/p, and i.i.d i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124000" y="836640"/>
          <a:ext cx="4122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836640"/>
                    <a:ext cx="4122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2671200" y="234936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Lucida Sans"/>
              </a:rPr>
              <a:t>[q times 0s] 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246920" y="23493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Log k bits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2" name="Group 42"/>
          <p:cNvGrpSpPr/>
          <p:nvPr/>
        </p:nvGrpSpPr>
        <p:grpSpPr>
          <a:xfrm>
            <a:off x="396720" y="1714680"/>
            <a:ext cx="8204760" cy="2964240"/>
            <a:chOff x="396720" y="1714680"/>
            <a:chExt cx="8204760" cy="2964240"/>
          </a:xfrm>
        </p:grpSpPr>
        <p:sp>
          <p:nvSpPr>
            <p:cNvPr id="283" name="AutoShape 22"/>
            <p:cNvSpPr/>
            <p:nvPr/>
          </p:nvSpPr>
          <p:spPr>
            <a:xfrm rot="16200000">
              <a:off x="3624120" y="51552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3"/>
            <p:cNvSpPr/>
            <p:nvPr/>
          </p:nvSpPr>
          <p:spPr>
            <a:xfrm>
              <a:off x="15667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4"/>
            <p:cNvSpPr/>
            <p:nvPr/>
          </p:nvSpPr>
          <p:spPr>
            <a:xfrm>
              <a:off x="21002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"/>
            <p:cNvSpPr/>
            <p:nvPr/>
          </p:nvSpPr>
          <p:spPr>
            <a:xfrm>
              <a:off x="2633400" y="310680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423396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27"/>
            <p:cNvSpPr/>
            <p:nvPr/>
          </p:nvSpPr>
          <p:spPr>
            <a:xfrm>
              <a:off x="31669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37004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47671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Rectangle 30"/>
            <p:cNvSpPr/>
            <p:nvPr/>
          </p:nvSpPr>
          <p:spPr>
            <a:xfrm>
              <a:off x="53006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3416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367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743436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796788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499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103320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69008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15667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21002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2633400" y="24973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423396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31669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37004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47671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53006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5834160" y="24973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367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Rectangle 82"/>
            <p:cNvSpPr/>
            <p:nvPr/>
          </p:nvSpPr>
          <p:spPr>
            <a:xfrm>
              <a:off x="499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Rectangle 83"/>
            <p:cNvSpPr/>
            <p:nvPr/>
          </p:nvSpPr>
          <p:spPr>
            <a:xfrm>
              <a:off x="1033200" y="24973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Rectangle 84"/>
            <p:cNvSpPr/>
            <p:nvPr/>
          </p:nvSpPr>
          <p:spPr>
            <a:xfrm>
              <a:off x="69008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18"/>
            <p:cNvSpPr/>
            <p:nvPr/>
          </p:nvSpPr>
          <p:spPr>
            <a:xfrm>
              <a:off x="2786040" y="42498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a block of 128 numb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7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0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ttangolo 17"/>
          <p:cNvSpPr/>
          <p:nvPr/>
        </p:nvSpPr>
        <p:spPr>
          <a:xfrm>
            <a:off x="4786200" y="2000160"/>
            <a:ext cx="32148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ttangolo 14"/>
          <p:cNvSpPr/>
          <p:nvPr/>
        </p:nvSpPr>
        <p:spPr>
          <a:xfrm>
            <a:off x="1928880" y="2000160"/>
            <a:ext cx="22860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ttangolo arrotondato 10"/>
          <p:cNvSpPr/>
          <p:nvPr/>
        </p:nvSpPr>
        <p:spPr>
          <a:xfrm>
            <a:off x="4357800" y="1928880"/>
            <a:ext cx="357120" cy="142884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428840"/>
              <a:gd name="textAreaBottom" fmla="*/ 1411560 h 1428840"/>
            </a:gdLst>
            <a:ahLst/>
            <a:rect l="textAreaLeft" t="textAreaTop" r="textAreaRight" b="textAreaBottom"/>
            <a:pathLst>
              <a:path w="21600" h="86356">
                <a:moveTo>
                  <a:pt x="3600" y="0"/>
                </a:moveTo>
                <a:arcTo wR="3600" hR="3600" stAng="16200000" swAng="-5400000"/>
                <a:lnTo>
                  <a:pt x="0" y="82756"/>
                </a:lnTo>
                <a:arcTo wR="3600" hR="3600" stAng="10800000" swAng="-5400000"/>
                <a:lnTo>
                  <a:pt x="18000" y="86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polative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ttangolo 7"/>
          <p:cNvSpPr/>
          <p:nvPr/>
        </p:nvSpPr>
        <p:spPr>
          <a:xfrm>
            <a:off x="1285920" y="20001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1   1   1   2   2   2   2   4   3   1   1  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ttangolo 8"/>
          <p:cNvSpPr/>
          <p:nvPr/>
        </p:nvSpPr>
        <p:spPr>
          <a:xfrm>
            <a:off x="1285920" y="26398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 = 1   2   3   5   7   9   11 15 18 19 20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ttangolo 9"/>
          <p:cNvSpPr/>
          <p:nvPr/>
        </p:nvSpPr>
        <p:spPr>
          <a:xfrm>
            <a:off x="214200" y="3656160"/>
            <a:ext cx="871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cursive co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order traversal of a balanced binary tre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Lucida Sans"/>
              </a:rPr>
              <a:t>At every step we know (initially, they are encoded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M| = 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idx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idx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21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ake the middle element: h= (Lidx+Ridx)/2=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[6]=9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f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h – Lidx = 5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igh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Ridx-h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lef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1+5 </a:t>
            </a:r>
            <a:r>
              <a:rPr b="0" lang="en-US" sz="2000" spc="-1" strike="noStrike">
                <a:solidFill>
                  <a:srgbClr val="007254"/>
                </a:solidFill>
                <a:latin typeface="Lucida Sans"/>
              </a:rPr>
              <a:t>= 6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≤ M[h] ≤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right_size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21 – 6)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7254"/>
                </a:solidFill>
                <a:latin typeface="Lucida Sans"/>
              </a:rPr>
              <a:t>= 1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can encode 9 in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15-6+1) = </a:t>
            </a:r>
            <a:r>
              <a:rPr b="0" i="1" lang="en-US" sz="2000" spc="-1" strike="noStrike">
                <a:solidFill>
                  <a:srgbClr val="262673"/>
                </a:solidFill>
                <a:latin typeface="Lucida Sans"/>
              </a:rPr>
              <a:t>4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ttangolo 15"/>
          <p:cNvSpPr/>
          <p:nvPr/>
        </p:nvSpPr>
        <p:spPr>
          <a:xfrm>
            <a:off x="1500120" y="3139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,  hi=9-1=8,  num=5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ttangolo 16"/>
          <p:cNvSpPr/>
          <p:nvPr/>
        </p:nvSpPr>
        <p:spPr>
          <a:xfrm>
            <a:off x="4714920" y="30002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9+1=10,  hi=21,  num=6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338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344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345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6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7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9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8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359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360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2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3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4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65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optim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est order for query processing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rter lists first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34320" y="35002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76200" y="4033800"/>
            <a:ext cx="1754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709560" y="456732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2192400" y="357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2192400" y="411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3411360" y="4643280"/>
            <a:ext cx="4876560" cy="304920"/>
            <a:chOff x="3411360" y="4643280"/>
            <a:chExt cx="4876560" cy="304920"/>
          </a:xfrm>
        </p:grpSpPr>
        <p:sp>
          <p:nvSpPr>
            <p:cNvPr id="389" name="Rectangle 10"/>
            <p:cNvSpPr/>
            <p:nvPr/>
          </p:nvSpPr>
          <p:spPr>
            <a:xfrm>
              <a:off x="3411360" y="46432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4020840" y="4643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630320" y="46432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5240160" y="46432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5849640" y="4643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4" name="Group 15"/>
          <p:cNvGrpSpPr/>
          <p:nvPr/>
        </p:nvGrpSpPr>
        <p:grpSpPr>
          <a:xfrm>
            <a:off x="3411360" y="4033800"/>
            <a:ext cx="4940280" cy="398880"/>
            <a:chOff x="3411360" y="4033800"/>
            <a:chExt cx="4940280" cy="398880"/>
          </a:xfrm>
        </p:grpSpPr>
        <p:grpSp>
          <p:nvGrpSpPr>
            <p:cNvPr id="395" name="Group 16"/>
            <p:cNvGrpSpPr/>
            <p:nvPr/>
          </p:nvGrpSpPr>
          <p:grpSpPr>
            <a:xfrm>
              <a:off x="3411360" y="4110120"/>
              <a:ext cx="4876560" cy="304920"/>
              <a:chOff x="3411360" y="4110120"/>
              <a:chExt cx="4876560" cy="304920"/>
            </a:xfrm>
          </p:grpSpPr>
          <p:sp>
            <p:nvSpPr>
              <p:cNvPr id="396" name="Rectangle 17"/>
              <p:cNvSpPr/>
              <p:nvPr/>
            </p:nvSpPr>
            <p:spPr>
              <a:xfrm>
                <a:off x="3411360" y="41101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7" name="Rectangle 18"/>
              <p:cNvSpPr/>
              <p:nvPr/>
            </p:nvSpPr>
            <p:spPr>
              <a:xfrm>
                <a:off x="4020840" y="41101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8" name="Rectangle 19"/>
              <p:cNvSpPr/>
              <p:nvPr/>
            </p:nvSpPr>
            <p:spPr>
              <a:xfrm>
                <a:off x="4630320" y="41101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9" name="Rectangle 20"/>
              <p:cNvSpPr/>
              <p:nvPr/>
            </p:nvSpPr>
            <p:spPr>
              <a:xfrm>
                <a:off x="5240160" y="41101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Line 21"/>
              <p:cNvSpPr/>
              <p:nvPr/>
            </p:nvSpPr>
            <p:spPr>
              <a:xfrm>
                <a:off x="5849640" y="4110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01" name="Text Box 22"/>
            <p:cNvSpPr/>
            <p:nvPr/>
          </p:nvSpPr>
          <p:spPr>
            <a:xfrm>
              <a:off x="355716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42580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4834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541692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5977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66099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72687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Text Box 29"/>
            <p:cNvSpPr/>
            <p:nvPr/>
          </p:nvSpPr>
          <p:spPr>
            <a:xfrm>
              <a:off x="787824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9" name="Group 30"/>
          <p:cNvGrpSpPr/>
          <p:nvPr/>
        </p:nvGrpSpPr>
        <p:grpSpPr>
          <a:xfrm>
            <a:off x="3411360" y="3500280"/>
            <a:ext cx="4876560" cy="457200"/>
            <a:chOff x="3411360" y="3500280"/>
            <a:chExt cx="4876560" cy="457200"/>
          </a:xfrm>
        </p:grpSpPr>
        <p:grpSp>
          <p:nvGrpSpPr>
            <p:cNvPr id="410" name="Group 31"/>
            <p:cNvGrpSpPr/>
            <p:nvPr/>
          </p:nvGrpSpPr>
          <p:grpSpPr>
            <a:xfrm>
              <a:off x="3411360" y="3576600"/>
              <a:ext cx="4876560" cy="304920"/>
              <a:chOff x="3411360" y="3576600"/>
              <a:chExt cx="4876560" cy="304920"/>
            </a:xfrm>
          </p:grpSpPr>
          <p:sp>
            <p:nvSpPr>
              <p:cNvPr id="411" name="Rectangle 32"/>
              <p:cNvSpPr/>
              <p:nvPr/>
            </p:nvSpPr>
            <p:spPr>
              <a:xfrm>
                <a:off x="3411360" y="3576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2" name="Rectangle 33"/>
              <p:cNvSpPr/>
              <p:nvPr/>
            </p:nvSpPr>
            <p:spPr>
              <a:xfrm>
                <a:off x="4020840" y="3576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3" name="Rectangle 34"/>
              <p:cNvSpPr/>
              <p:nvPr/>
            </p:nvSpPr>
            <p:spPr>
              <a:xfrm>
                <a:off x="4630320" y="3576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4" name="Rectangle 35"/>
              <p:cNvSpPr/>
              <p:nvPr/>
            </p:nvSpPr>
            <p:spPr>
              <a:xfrm>
                <a:off x="5240160" y="3576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5" name="Line 36"/>
              <p:cNvSpPr/>
              <p:nvPr/>
            </p:nvSpPr>
            <p:spPr>
              <a:xfrm>
                <a:off x="5849640" y="3576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16" name="Text Box 37"/>
            <p:cNvSpPr/>
            <p:nvPr/>
          </p:nvSpPr>
          <p:spPr>
            <a:xfrm>
              <a:off x="35881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Text Box 38"/>
            <p:cNvSpPr/>
            <p:nvPr/>
          </p:nvSpPr>
          <p:spPr>
            <a:xfrm>
              <a:off x="41486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Text Box 39"/>
            <p:cNvSpPr/>
            <p:nvPr/>
          </p:nvSpPr>
          <p:spPr>
            <a:xfrm>
              <a:off x="47923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Text Box 40"/>
            <p:cNvSpPr/>
            <p:nvPr/>
          </p:nvSpPr>
          <p:spPr>
            <a:xfrm>
              <a:off x="53636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Text Box 41"/>
            <p:cNvSpPr/>
            <p:nvPr/>
          </p:nvSpPr>
          <p:spPr>
            <a:xfrm>
              <a:off x="59702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656244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6992640" y="3500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Text Box 44"/>
            <p:cNvSpPr/>
            <p:nvPr/>
          </p:nvSpPr>
          <p:spPr>
            <a:xfrm>
              <a:off x="767052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4" name="Text Box 45"/>
          <p:cNvSpPr/>
          <p:nvPr/>
        </p:nvSpPr>
        <p:spPr>
          <a:xfrm>
            <a:off x="3421080" y="4567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AutoShape 46"/>
          <p:cNvSpPr/>
          <p:nvPr/>
        </p:nvSpPr>
        <p:spPr>
          <a:xfrm>
            <a:off x="2192400" y="46432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404784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8"/>
          <p:cNvSpPr/>
          <p:nvPr/>
        </p:nvSpPr>
        <p:spPr>
          <a:xfrm>
            <a:off x="1310760" y="5241960"/>
            <a:ext cx="64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Oval 49"/>
          <p:cNvSpPr/>
          <p:nvPr/>
        </p:nvSpPr>
        <p:spPr>
          <a:xfrm>
            <a:off x="5219640" y="342900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Oval 51"/>
          <p:cNvSpPr/>
          <p:nvPr/>
        </p:nvSpPr>
        <p:spPr>
          <a:xfrm>
            <a:off x="6443640" y="393372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Oval 52"/>
          <p:cNvSpPr/>
          <p:nvPr/>
        </p:nvSpPr>
        <p:spPr>
          <a:xfrm>
            <a:off x="3929040" y="4508640"/>
            <a:ext cx="720720" cy="576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47"/>
          <p:cNvSpPr/>
          <p:nvPr/>
        </p:nvSpPr>
        <p:spPr>
          <a:xfrm>
            <a:off x="4724280" y="4600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and the posting lists with word posi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r space occupancy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5÷8%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n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rder pages according to various scores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 position &amp; fre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body, title, anchor,…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k popular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r clicks or prefe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1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442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448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449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0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1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54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2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463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464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5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6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8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69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0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7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348000" y="169488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41443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8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48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49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49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9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9" name="AutoShape 16"/>
            <p:cNvCxnSpPr>
              <a:endCxn id="49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0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01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502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506" name="AutoShape 23"/>
            <p:cNvCxnSpPr>
              <a:stCxn id="496" idx="3"/>
              <a:endCxn id="502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7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508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0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511" name="AutoShape 31"/>
            <p:cNvCxnSpPr>
              <a:stCxn id="508" idx="1"/>
              <a:endCxn id="509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512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4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515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7" name="AutoShape 37"/>
          <p:cNvCxnSpPr>
            <a:stCxn id="508" idx="2"/>
            <a:endCxn id="518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519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520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22" name="AutoShape 41"/>
          <p:cNvCxnSpPr>
            <a:stCxn id="508" idx="2"/>
            <a:endCxn id="515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523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524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525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527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28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518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9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30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3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534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535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6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7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538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9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0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1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2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3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4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5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6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7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8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9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50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2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54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555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6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57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“weight”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472400" y="2625840"/>
            <a:ext cx="54928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requency 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 =  #occ</a:t>
            </a:r>
            <a:r>
              <a:rPr b="0" i="1" lang="it-IT" sz="23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/ |d|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8" name="Group 10"/>
          <p:cNvGrpSpPr/>
          <p:nvPr/>
        </p:nvGrpSpPr>
        <p:grpSpPr>
          <a:xfrm>
            <a:off x="622440" y="3322800"/>
            <a:ext cx="7910280" cy="900000"/>
            <a:chOff x="622440" y="3322800"/>
            <a:chExt cx="7910280" cy="900000"/>
          </a:xfrm>
        </p:grpSpPr>
        <p:sp>
          <p:nvSpPr>
            <p:cNvPr id="569" name="Line 11"/>
            <p:cNvSpPr/>
            <p:nvPr/>
          </p:nvSpPr>
          <p:spPr>
            <a:xfrm>
              <a:off x="2054160" y="371016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775656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379080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2771640" y="3562200"/>
              <a:ext cx="5761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Rectangle 15"/>
            <p:cNvSpPr/>
            <p:nvPr/>
          </p:nvSpPr>
          <p:spPr>
            <a:xfrm>
              <a:off x="1433520" y="348948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Rectangle 16"/>
            <p:cNvSpPr/>
            <p:nvPr/>
          </p:nvSpPr>
          <p:spPr>
            <a:xfrm>
              <a:off x="109044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Rectangle 17"/>
            <p:cNvSpPr/>
            <p:nvPr/>
          </p:nvSpPr>
          <p:spPr>
            <a:xfrm>
              <a:off x="2077560" y="3710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Rectangle 18"/>
            <p:cNvSpPr/>
            <p:nvPr/>
          </p:nvSpPr>
          <p:spPr>
            <a:xfrm>
              <a:off x="2098080" y="33544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Rectangle 19"/>
            <p:cNvSpPr/>
            <p:nvPr/>
          </p:nvSpPr>
          <p:spPr>
            <a:xfrm>
              <a:off x="622440" y="348948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Rectangle 20"/>
            <p:cNvSpPr/>
            <p:nvPr/>
          </p:nvSpPr>
          <p:spPr>
            <a:xfrm>
              <a:off x="2215440" y="3994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Rectangle 21"/>
            <p:cNvSpPr/>
            <p:nvPr/>
          </p:nvSpPr>
          <p:spPr>
            <a:xfrm>
              <a:off x="1004760" y="3703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Rectangle 22"/>
            <p:cNvSpPr/>
            <p:nvPr/>
          </p:nvSpPr>
          <p:spPr>
            <a:xfrm>
              <a:off x="23554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Rectangle 23"/>
            <p:cNvSpPr/>
            <p:nvPr/>
          </p:nvSpPr>
          <p:spPr>
            <a:xfrm>
              <a:off x="23554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Rectangle 24"/>
            <p:cNvSpPr/>
            <p:nvPr/>
          </p:nvSpPr>
          <p:spPr>
            <a:xfrm>
              <a:off x="23554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3" name="Rectangle 25"/>
            <p:cNvSpPr/>
            <p:nvPr/>
          </p:nvSpPr>
          <p:spPr>
            <a:xfrm>
              <a:off x="18838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Rectangle 26"/>
            <p:cNvSpPr/>
            <p:nvPr/>
          </p:nvSpPr>
          <p:spPr>
            <a:xfrm>
              <a:off x="18838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5" name="Rectangle 27"/>
            <p:cNvSpPr/>
            <p:nvPr/>
          </p:nvSpPr>
          <p:spPr>
            <a:xfrm>
              <a:off x="18838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1127880" y="34513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7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595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“close together”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97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1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2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05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1778040" y="3573360"/>
            <a:ext cx="4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Rectangle 24"/>
          <p:cNvSpPr/>
          <p:nvPr/>
        </p:nvSpPr>
        <p:spPr>
          <a:xfrm>
            <a:off x="4308120" y="184428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AutoShape 25"/>
          <p:cNvSpPr/>
          <p:nvPr/>
        </p:nvSpPr>
        <p:spPr>
          <a:xfrm>
            <a:off x="3321000" y="5265000"/>
            <a:ext cx="5715000" cy="44136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ximate top-k resul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115360" y="5732640"/>
            <a:ext cx="5179680" cy="39888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744200" y="6359400"/>
            <a:ext cx="6247800" cy="398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630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1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2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6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40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2" name="Group 4"/>
          <p:cNvGrpSpPr/>
          <p:nvPr/>
        </p:nvGrpSpPr>
        <p:grpSpPr>
          <a:xfrm>
            <a:off x="5867280" y="5325480"/>
            <a:ext cx="3238200" cy="1416600"/>
            <a:chOff x="5867280" y="5325480"/>
            <a:chExt cx="3238200" cy="1416600"/>
          </a:xfrm>
        </p:grpSpPr>
        <p:sp>
          <p:nvSpPr>
            <p:cNvPr id="643" name="Oval 5"/>
            <p:cNvSpPr/>
            <p:nvPr/>
          </p:nvSpPr>
          <p:spPr>
            <a:xfrm>
              <a:off x="6726960" y="602388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5968080" y="6485760"/>
              <a:ext cx="80928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>
              <a:off x="5968080" y="5921280"/>
              <a:ext cx="80928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5867280" y="6331680"/>
              <a:ext cx="85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7334280" y="633168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8" name="Text Box 10"/>
            <p:cNvSpPr/>
            <p:nvPr/>
          </p:nvSpPr>
          <p:spPr>
            <a:xfrm>
              <a:off x="7050600" y="532548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7522560" y="5865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 flipV="1">
              <a:off x="7081200" y="5613480"/>
              <a:ext cx="151560" cy="4104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Text Box 13"/>
            <p:cNvSpPr/>
            <p:nvPr/>
          </p:nvSpPr>
          <p:spPr>
            <a:xfrm>
              <a:off x="7822800" y="61167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Text Box 14"/>
            <p:cNvSpPr/>
            <p:nvPr/>
          </p:nvSpPr>
          <p:spPr>
            <a:xfrm>
              <a:off x="6776640" y="5398920"/>
              <a:ext cx="46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’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6357960" y="5711760"/>
                <a:ext cx="27511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852480" y="1862280"/>
                <a:ext cx="524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Rectangle 5"/>
          <p:cNvSpPr/>
          <p:nvPr/>
        </p:nvSpPr>
        <p:spPr>
          <a:xfrm>
            <a:off x="304920" y="545616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6467400" y="1673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ixed valu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6150600" y="2919240"/>
            <a:ext cx="1544760" cy="1430280"/>
            <a:chOff x="6150600" y="2919240"/>
            <a:chExt cx="1544760" cy="1430280"/>
          </a:xfrm>
        </p:grpSpPr>
        <p:sp>
          <p:nvSpPr>
            <p:cNvPr id="660" name="AutoShape 11"/>
            <p:cNvSpPr/>
            <p:nvPr/>
          </p:nvSpPr>
          <p:spPr>
            <a:xfrm rot="18527400">
              <a:off x="6538680" y="374580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Text Box 12"/>
            <p:cNvSpPr/>
            <p:nvPr/>
          </p:nvSpPr>
          <p:spPr>
            <a:xfrm>
              <a:off x="6150600" y="291924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2" name="Object 4"/>
              <p:cNvSpPr txBox="1"/>
              <p:nvPr/>
            </p:nvSpPr>
            <p:spPr>
              <a:xfrm>
                <a:off x="866880" y="3286080"/>
                <a:ext cx="580680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1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264200" y="4713840"/>
            <a:ext cx="4583880" cy="2028240"/>
            <a:chOff x="4264200" y="4713840"/>
            <a:chExt cx="4583880" cy="2028240"/>
          </a:xfrm>
        </p:grpSpPr>
        <p:sp>
          <p:nvSpPr>
            <p:cNvPr id="666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9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Text Box 10"/>
            <p:cNvSpPr/>
            <p:nvPr/>
          </p:nvSpPr>
          <p:spPr>
            <a:xfrm>
              <a:off x="6276960" y="471384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Text Box 11"/>
            <p:cNvSpPr/>
            <p:nvPr/>
          </p:nvSpPr>
          <p:spPr>
            <a:xfrm>
              <a:off x="6933240" y="549432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4" name="Text Box 13"/>
            <p:cNvSpPr/>
            <p:nvPr/>
          </p:nvSpPr>
          <p:spPr>
            <a:xfrm>
              <a:off x="7504560" y="58885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5" name="Text Box 14"/>
            <p:cNvSpPr/>
            <p:nvPr/>
          </p:nvSpPr>
          <p:spPr>
            <a:xfrm>
              <a:off x="5810040" y="48290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76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677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” each page has a long-term visit rat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’s score.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125360"/>
            <a:ext cx="7236000" cy="2016360"/>
          </a:xfrm>
          <a:prstGeom prst="rect">
            <a:avLst/>
          </a:prstGeom>
          <a:noFill/>
          <a:ln w="698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380360" y="1125360"/>
            <a:ext cx="1763640" cy="5732640"/>
          </a:xfrm>
          <a:prstGeom prst="rect">
            <a:avLst/>
          </a:prstGeom>
          <a:noFill/>
          <a:ln w="698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CasellaDiTesto 5"/>
          <p:cNvSpPr/>
          <p:nvPr/>
        </p:nvSpPr>
        <p:spPr>
          <a:xfrm>
            <a:off x="5817960" y="22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Lucida Sans"/>
              </a:rPr>
              <a:t>+</a:t>
            </a:r>
            <a:r>
              <a:rPr b="1" lang="en-US" sz="3600" spc="-1" strike="noStrike">
                <a:solidFill>
                  <a:srgbClr val="33cc33"/>
                </a:solidFill>
                <a:latin typeface="Lucida Sans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198960"/>
            <a:ext cx="7236000" cy="365904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CasellaDiTesto 7"/>
          <p:cNvSpPr/>
          <p:nvPr/>
        </p:nvSpPr>
        <p:spPr>
          <a:xfrm>
            <a:off x="6035760" y="6068880"/>
            <a:ext cx="6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Lucida Sans"/>
              </a:rPr>
              <a:t>-</a:t>
            </a:r>
            <a:r>
              <a:rPr b="1" lang="en-US" sz="4400" spc="-1" strike="noStrike">
                <a:solidFill>
                  <a:srgbClr val="ff3300"/>
                </a:solidFill>
                <a:latin typeface="Lucida Sans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olfram Alpha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6" name="Picture 3" descr="C:\Users\ferragin\Desktop\Immagine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ferragin\Desktop\Immagine2.png"/>
          <p:cNvPicPr/>
          <p:nvPr/>
        </p:nvPicPr>
        <p:blipFill>
          <a:blip r:embed="rId2"/>
          <a:stretch/>
        </p:blipFill>
        <p:spPr>
          <a:xfrm>
            <a:off x="142920" y="0"/>
            <a:ext cx="64292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ferragin\Desktop\Immagine3.png"/>
          <p:cNvPicPr/>
          <p:nvPr/>
        </p:nvPicPr>
        <p:blipFill>
          <a:blip r:embed="rId3"/>
          <a:stretch/>
        </p:blipFill>
        <p:spPr>
          <a:xfrm>
            <a:off x="14292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20T10:58:40Z</dcterms:modified>
  <cp:revision>1310</cp:revision>
  <dc:subject/>
  <dc:title>Web Algorithmics</dc:title>
</cp:coreProperties>
</file>